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F7F2-F7B2-4626-A8F3-8E0FD49A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0B4F-26E9-4E3C-A5F4-D9E4E593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8E96-C398-4B48-A1EF-BBEF654EE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5A65-D6A8-4E88-8257-2E05A3CD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F6C7F-4FAA-4C6B-A284-21072CFB0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7254-4A10-413F-8AD7-E01B17E75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C648-8615-4241-A5F8-56F40F13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15F4-4A5C-401C-B565-4B26D5D19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308D-C9F7-4745-8295-E8463C206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D986-9661-4A3A-B920-C7D677CA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9619-B79F-4323-AA6B-FCB97076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5B0F-94A1-4297-8D03-2EE085583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C8D9-0830-4C2C-ACC8-56851EF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5FE-0B34-4F04-ADA6-D3E781D5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D24-E2AA-4F2E-8D70-DD479AC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9E5F3-EEF4-45DC-AE09-9893BAAD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E6CE-B625-4A14-8C98-FD6B466E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A78E-392A-41F3-B46A-5EAD96DA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15E-62F3-49AB-A45E-BD741529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1E08-6925-420F-96F2-152B3C7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534A-CAF7-422A-AC4F-A179A6AD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FE82-78AF-4667-8649-4BB01AFD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4430-A955-4898-9393-5699E7360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F01C-E550-4EDE-A335-24304654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4E4BA-A6BE-470D-8181-1252A5CCB49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0B18-36BC-473A-A3AE-36FA0E04E53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20840" y="665280"/>
            <a:ext cx="8229600" cy="2535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495320" y="4647960"/>
            <a:ext cx="434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raghici Andre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838080" y="3886200"/>
            <a:ext cx="33339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876560" y="1599840"/>
            <a:ext cx="38098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lnSpc>
                <a:spcPct val="9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Léonard de Vinci né à Vinci le 15 avril 1452 et mort à Amboise le 2 mai 1519, est un peintre italien et un homme d'esprit universel, à la fois artiste, scientifique, ingénieur, inventeur, anatomiste, peintre, sculpteur, architecte, urbaniste, botaniste, musicien, poète, philosophe et écrivain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2"/>
          <a:stretch/>
        </p:blipFill>
        <p:spPr>
          <a:xfrm>
            <a:off x="963720" y="1486080"/>
            <a:ext cx="3200400" cy="48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rmoured Ca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828800" y="2806560"/>
            <a:ext cx="5486400" cy="32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457200" y="3049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Book Antiqua"/>
              </a:rPr>
              <a:t>Véhicule de Vinci a un certain nombre de canons de lumière disposés sur une plate-forme circulaire avec des roues qui permettent à 360 ° plage. La plate-forme est recouverte par un couvercle de protection à grande (un peu comme une carapace de tortue), renforcé avec des plaques métalliques, qui devait être incliné afin de mieux détourner les tirs ennemis. Il a une tourelle de visée sur le dessus afin de coordonner la mise à feu des canons et la direction du véhicul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13644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4114800" y="3733920"/>
            <a:ext cx="38527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5486400" y="1599840"/>
            <a:ext cx="3200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Le parachut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Book Antiqua"/>
              </a:rPr>
              <a:t>En effet, c’est à lui que revient le mérite d’avoir, le premier conçu scientifiquement un projet de parachute à l’usage de l’homme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219320" y="1676520"/>
            <a:ext cx="2857320" cy="39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2282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42040" indent="-27396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Il faudra attendre jusqu’au 22 octobre 1797 pour assister à Paris, au Parc Monceau, au premier saut en parachute, à partir d’une montgolfière, par André Jacques Garnerin qui sauta à 680 mètres d’altitud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FR" sz="2800" spc="-1" strike="noStrike">
                <a:solidFill>
                  <a:srgbClr val="ffffff"/>
                </a:solidFill>
                <a:latin typeface="Book Antiqua"/>
              </a:rPr>
              <a:t>Mais c’est bien plus tard, avec l’apparition des premiers avions, au début du 20e siècle que le développement du parachutisme connu son véritable esso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143000" y="44956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5257800" y="4232160"/>
            <a:ext cx="281952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229600" cy="157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057400" y="1587600"/>
            <a:ext cx="4927680" cy="49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Andrei</dc:creator>
  <dc:description/>
  <dc:language>en-US</dc:language>
  <cp:lastModifiedBy>Andrei</cp:lastModifiedBy>
  <dcterms:modified xsi:type="dcterms:W3CDTF">2012-05-08T15:28:32Z</dcterms:modified>
  <cp:revision>5</cp:revision>
  <dc:subject/>
  <dc:title>Inventions   et   Inventeurs</dc:title>
</cp:coreProperties>
</file>